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A68-E91C-4E2C-B3AB-7C3529CB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8BA-3CDF-4240-AB98-0CB7A00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32EE3-0C25-4D2E-9838-6231A7B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E8868-F0D8-46D2-9F98-545B0F4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93EE-CAD1-4BC7-971C-71F9D0F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74024-686E-4A3A-A4EB-E61EA87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A25DC-AA63-4831-8200-72CDB55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DC9DB-CBE9-4BDE-8CB3-67C8152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F0B82-E493-4CC7-A180-D3125433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AFBF-EC37-4C7C-B2B1-502E03B2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6A31-33E7-4EA1-B0F8-8B74BC62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788F8-1C2F-4ED0-8D0B-E2202119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B45-1F6C-4B21-B3A7-586F04FD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3728B-7391-4134-A10B-2604ECD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A3761-5B13-43BA-8CEB-42D53A3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2F772-8C7F-4CE7-B245-28475F5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2713C-5B35-4EFC-964C-9B8C7DFD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52A6A-511B-443D-843D-BD94C89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8A678-BAA9-4678-A3B5-81C7FCA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84BB9-19D1-4179-B337-B2BC08B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2A06A-A73D-4B5C-8951-7A814AD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1401-8B8F-4E36-A807-CF743F9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D18CC-FE72-4BED-B76E-9419638B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92C-BCBB-429E-A89B-2D74D77F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3A675-6A96-4BDA-8F7E-7DE65C0B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8F85-FBD2-4C69-89BA-EA4D8211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DB56-9564-4F23-9C8D-C338CCB6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752D9-C8D5-4EB0-94C0-855DDEA4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5D756-30FC-4923-8F3A-4BF0CC6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0EABB-8E6E-4223-9DA5-1829E93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50F2-6A0B-4514-8450-B2A69DC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68AC1-2EE2-4BC8-95C6-F304876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FC5E-799E-48E7-BF5B-395BFA4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8F117-A6CA-426F-88EF-141D263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4CB-C743-41FA-8FA1-48F91F9D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3AF1-51D4-4E0E-B669-1C9C8F3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7985B-0525-4130-9E1D-8BDBABA2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08000-EFDE-47D7-90BC-AE5E4685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98CA1-9493-4BAB-909E-9DDCCF3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67203-755C-4792-8FED-5D491BD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B445-3284-4147-AE02-E4B2FA4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0FEC1-3EE1-418D-AE37-18856723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1E95D-8A11-453D-859D-656274A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67FEC-4BF0-49A7-B50B-4A10575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FDD64-AC64-49AD-8575-831D347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0917-D9DD-4123-9390-73A711FC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C65D0-99ED-49B8-9BA5-072BB61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293F2-F0C5-406C-A7D4-06CCB47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48D8-93C6-4B30-B022-3923045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65ED4-CBC3-480F-BBB7-660CA3C0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FC0D3-9697-4BEA-9C6B-201EE7C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C5A00-6EFA-4CFB-8AEB-0D9B3A4A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F4E94-2C1B-4177-837F-8B30F85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6CC3B-D2BE-4C21-B309-BC92AF0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B5710-F99B-44F2-BE3E-FF2778E3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04337-9FF5-4A30-8D3E-859001CD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C61B-4C1D-4EBC-B81E-06EA10F1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A1C66-546D-40AE-8608-22B521A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25D12-1E8F-4B29-88CB-D9DACADB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BF286-C43C-4B40-93C5-47F594F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7C150-3B2D-4A30-9E74-6BBBE64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58585-9FE5-4FA0-9288-E1C3C46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DED40-DC5D-4800-AF86-391FE9C0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9E7BF-6E66-48EB-9F6E-A29B08A8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5CC95-95B9-4A6B-A56F-7FA0495D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FA226-77DF-4E1E-A30D-427510A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2A448-80CF-41EE-BD28-2987CBD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C30-F9EE-4BBC-B7B2-F69131C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F198A-FD66-4BBC-9D1C-2722EC7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ADD81-CA1A-4C51-A938-003DDBA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71964-5C88-48C6-8870-C91A89D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40F0A-7883-4A20-94AA-40C9D98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FFF0E-B52A-4423-86F8-DC0F1856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7828C-48BD-409D-9720-8604FD9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2C3BF-CBCC-4537-B99B-9CA3CB8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11B92-4A9A-48A0-9E43-D244C3D5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370CC-C281-4177-B9F0-2B5436E7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FC4C4-8837-4FCA-945E-9FBEA6EF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EA9-3A43-46CB-8C18-F6D6CA3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867BB-4923-4742-9AA8-292CDEC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7B08E-442F-4615-AD63-167F1DA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82176-3968-4E18-A877-EA1590C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8D6F0-7091-4890-921F-2FA4657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F21D1-929E-456D-9CD9-DCEF70B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81197-AF7A-43AD-87CC-C78912C2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32D8D-A6D0-4558-88B0-80EEF38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4D3CF-730E-46E3-9637-DE25F89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E5043-095A-4DFB-AD88-2C885BE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E63E5-09D8-43A2-AE4D-F899B21A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F1EF-9551-4122-9910-020EF768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DF6E3-4864-4D9B-8F78-B08A81B9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A9942-C36F-4420-A9EF-1F77B4EC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38C4E-AA98-4E64-93E8-675DE4E0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52D61-78D7-4F8D-8320-1452449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287E7-B91B-49A2-BDC1-DC62D9C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19362-7721-4A2E-BF1D-FA67975C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8CFDB-9062-46A5-A553-DAC96B0A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C68CB-CFE8-49A5-94E8-CCA440B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54038-E4A6-4BAA-8A38-45307C3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8DEC4-AFF3-4E2C-AD66-D653E202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4C9-E53F-4084-AC9C-FAA4BAF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8AD36-F9D7-4BB7-A595-D01B3E3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68722-73FB-48FB-8E2B-3324CF13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C0F92-40C5-40BB-B0BF-2F1DBC8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66863-2E85-4304-AB96-DA9C4DFD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524FD-D3DD-4D51-8638-B26905D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67704-647B-45CA-8D3C-E01D4C6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5E8D3-4F31-48B4-BCB2-E143735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31CEB-9486-4810-9F2B-606BAF4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9E8EC-817B-4F63-A6AB-7553F6A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587E4-9A61-43E5-BCBC-052612D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2E8-A547-47DB-A6AC-A3469651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F792-8409-44E7-B80A-F764A23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8AA94-2524-4B72-91E1-C4321A2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DE75E-ED02-4872-BFFB-E82E12EA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5DCA8-32E0-449F-92C2-CD9FCBB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F2145-5C9E-4957-90D8-FD86E450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1680D-DF99-4C1A-9F5F-7FDCE6F5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21300-3AB0-4D8A-BB68-8CF23807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316B7-4FFE-415E-9B21-63C75F4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EFDCE-C880-45E4-8980-C6DDF69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77B62-B826-43DE-92BF-AD6C998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04561-D4F9-415D-B724-75C5CCF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0CC1-007A-4EA4-8432-6DA173D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F93D1-A406-4A3C-9E85-AE6A648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785DB-9987-44FC-88FA-4D5A58B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60FC0-1053-47ED-96F4-470572F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2497F-7916-41F4-AC12-B61C598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0AA93-E962-4B26-A4E4-4E275CF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D6BD5-5523-4F91-BBB9-6E31C22F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01B84-25DC-41C7-BC3A-1F1AFA5D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282BD-3BAF-404C-BEB3-284A6501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428E1-3838-4732-8454-B6393C4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9C6C6-0A0B-4836-84F5-9415D9E3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10B0-9433-4797-AF0D-1091A521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E61A7-A7CB-4C32-8CAB-608FA74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40BF3-AC97-45EE-BBC0-2EFFD134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4A5F4-E85B-4BAD-AE2C-88828689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8AB15-45F6-497A-9BDB-0E4A0BC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B08B9-E105-4A32-9E14-8CF7D52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AEFEC-DCD3-41C7-B158-AA5DD4C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D0AC9D-4598-4BB3-983D-6BBE873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27A29-7E9F-4620-B937-079B0CCD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321B7-8C48-45B4-9C68-6D951ECB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86309-134E-4CD7-B8E0-58950E0C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644-2095-42EA-8153-EB404E8E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95DA7-388A-4076-BEA4-85296456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C91F8-072A-4F3E-8CA7-7B7CE01C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4FB09-7015-4DE9-9E79-CED29E38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99E50-48DA-421A-9AEE-D3F1B23A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AE2F0-FCF9-443F-BE12-814207B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A050D-6132-4478-9E67-D5EEBE2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5BDE2-2FBE-4C88-A36C-903AC26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7B7D3-3DF7-447D-93D4-2D1952B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2B021-AB05-4411-9B57-2016C9B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C0376-07CE-4459-8E49-B77ED6A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F809-DD57-4F54-8118-BEB3B86D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44562-DC83-49E1-B55A-77C3CCC6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D10FC-8139-419F-92E8-B9C259DF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117C8-00F2-4325-BC03-A45DC87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F6249-6091-4F89-B973-A7F53E0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1D982-6D8F-4603-83E0-BDDB19A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4D83D-7FA3-4829-9451-DE2EE79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D0726-1D84-4EB8-A8A0-3DD988F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DB4D6-C6C8-47FB-A8FF-BDB150E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70F08-2755-438C-973F-971F382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09E83-0201-4B4A-812D-5FE8749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953D-B873-4CB8-9257-3160B6B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4A9BD-4C6B-4013-A718-8FC638C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B0783-058F-4376-A49B-902A410E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D6571-517C-4198-B836-EB44AE6E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8096-5E88-4E1F-9C58-D1898A4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3B3E-8BCA-4B9E-B99A-D1C8B2A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193D-38E6-4923-97B6-21EF9D69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A030-DA4D-4442-9967-141A5D1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77E-9FD0-4527-8E78-42C9DAA2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D3A54-6178-4A93-B85A-F48C5F2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8D04-BB47-4A21-86DA-585EC8B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C864-F562-4975-AC20-FD335E9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853A-386C-4901-8778-0BA35D1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F1E4-23F0-4712-8478-1F636F55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68D2-4DD2-449C-AFDA-319E70A9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38B1-D9FE-4286-BFCE-22DF7032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D31A-CCC5-4290-B1B9-753875A7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3A52-06C2-4D37-BD01-7C6A591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D59E-A9CC-4E5B-86B9-4964177D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896-90FC-4489-AFB8-CDEE931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82B1-2039-47E0-B765-C168E60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C09F-C5E4-46A8-A76E-B0DC52C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71CD-39DC-4FB4-9B05-0A1B4918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7DA0-AEEC-44FD-898C-0393882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A615-D88D-4139-91FA-438A989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4BD4-B830-47AC-BA12-8AADCC3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2C9F-DC82-43D4-92A0-C85F813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82F6-8110-4091-B16D-E9136033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705A-7036-44A7-9429-3A7A1C9F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03AB-E43A-4588-AF45-36398798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4B3-103C-4C37-9524-58A05894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CB58-A84C-438F-A051-D8FF3269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096C-FFCB-479C-B0C8-71D35AD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4FB6-1D15-44EB-A827-223CE7D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EEB7-4820-4C79-83EA-1303F48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0D080-6F99-4DA9-8F2F-5F7E094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5A31-26E1-45EF-9317-0C8D616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D720-161D-4C1B-9055-A7E24950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4808-BD32-4B93-8488-2B78276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1F4E-51C5-4D7D-8B48-CFC7F1B4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15C7-1517-4CBB-B467-EBF1F840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ADF-4C10-4181-9898-575EA860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5DD1-675B-4EB7-AC57-442B693F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9ECB-4A7E-4831-9F3B-8F0B9A1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20C8-3324-48EE-AB8E-2ECC62B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B9DC-6AA6-49BF-953E-287AF5AA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5364-447A-453D-B26D-6F0EC45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51CE-A8AC-4C1D-9C9D-B729BC84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6379-F5DC-461D-8F6F-2807171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7A834-EDD0-4FFB-B690-F23C273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9618-C1E9-4268-ACAC-25EBFB28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3363-DDEC-463C-97E3-A730807B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C18-7727-4292-BF1B-503D74A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A91E-E9CD-4DC4-A3A3-CE85AA4A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F7EE-AA7B-4FAF-B57E-185A9F1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081A-BC88-418D-8135-A7A16170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C9F60-A4D9-4810-8B94-4F9DF164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5F049-54FF-401B-91C6-62C2D28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6959B-EA46-4AA5-B75C-2B509923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E1E82-CD97-489B-A60A-48C4552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843F-AA65-4F7D-8C73-1BD6C47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D5F7B-3674-4539-BB36-441DC6E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A121-EDEE-45E2-9D04-5A044DD9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7C3-15FC-46D3-9DBB-637F510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3343-5078-447F-8487-9786DBD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6159-69FF-4887-A470-836BDC7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B5E23-8B30-462F-9DF7-BFB04DC0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D61A-2001-44AD-A6F1-4BDE73E4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3235-9675-4A32-A51A-11032D36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B4404-942C-4AE7-9377-22FDEA63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A408-745F-44FC-AE53-4337B800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22A2-D8CE-45F7-B502-6DA1D45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826C-FE26-44AE-8E89-C782726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11F1-8A65-4224-8085-4E826811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BF1-4634-4D59-B008-F3ABCAB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7DB0-D884-4A9A-A15B-9172DD74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30DD-A284-479F-9F33-85B46FE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FA04-8582-496A-965D-FC9DDE7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E0EE-116B-4F6C-AC87-C908CDE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F954-5A77-4DC7-9055-2550E13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66B3-BE8A-48E8-A16B-C440B241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A1E7-C37D-4D38-9909-7C0C21F9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2D67F-7B56-4E1B-BA4A-1D283E19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715BD-FABA-4384-A429-83FEA12E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3FD8E-2896-47CD-8C41-50DFB1C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6764-14EC-4652-B9D4-98616F1F2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8F4-43CC-4280-AF65-91A07F520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A344-6A46-4178-901C-9E198C3F5D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B73-EC8B-49AD-910A-91E99A97E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5E8C-1DDD-4D97-8C1B-449644B7D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5E9-626C-45F4-86B2-9F93CA1D39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8BEC-870E-485B-B9BF-FE3B71671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69C-801D-4D6A-BB68-FEFF946B6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928-F1DB-44B9-936A-5284EB3BA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938-F603-43D3-8256-1071A30A0E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5E5-97DB-4106-A771-E01A49932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8D3-972D-4B86-BDDE-C2FDCD780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813-D354-4EB6-A694-8BBDA7A69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9523-3FDF-4CBE-81E0-C6AD61BC9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E106-FB47-447B-81A7-995207ABB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0AC-CC85-482D-8A17-892591A5E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A5C5-F3F6-4379-9359-3E00F47D5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C1A6-250A-441A-992A-8D10647CE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D66-5851-465D-BAC0-81AA0DC73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360-F715-4D45-A344-F7878CC7E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621-9812-4522-AA75-0533E37554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C33-1F68-477A-AC2F-884EA6EE3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DCA-6F86-401D-9076-8B4C42205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4B2-B50E-4ED8-8715-3D14D8C6E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E04-ED72-4173-BF59-CEEED28452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0E4-822A-44C1-BDFE-F8CA4077B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0C6-3D4F-4531-AC0D-8D2D55FBE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8DD-58EC-4F45-B4A0-9B07100DF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3A6-26CE-4164-A1E2-011E14D36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B2E3-1C31-470A-9196-0C3DB9B08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040-4DA8-46D0-B3C2-67D2249B5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4476-3DD4-4651-9D3F-B495BBBA9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64ED-8A15-4D5F-92E0-70B6BA187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89AB-EB43-4645-AE54-09A5017AA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A4E-BF8A-4FCA-AC8E-66BC43377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EFD-8F60-463A-B5DF-392E9EB474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E739-83C3-4CB3-B6B4-906F35B44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01A-E0D7-4B59-9EAB-F41CB9D83D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FEF-2D44-4CA8-933A-4F411846C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519-8F85-4A2E-B551-5E178E3CD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240000"/>
            <a:ext cx="85327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124000" y="847800"/>
            <a:ext cx="4673520" cy="5973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30440" y="1285920"/>
            <a:ext cx="44704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61880" y="1138320"/>
            <a:ext cx="8220240" cy="5315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7380360" y="4827600"/>
            <a:ext cx="863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76280" y="907920"/>
            <a:ext cx="8191440" cy="572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7164360" y="1001880"/>
            <a:ext cx="86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1332000" y="1027080"/>
            <a:ext cx="6696000" cy="457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867440" cy="5067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720108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339920" y="4327560"/>
            <a:ext cx="720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28480" y="836640"/>
            <a:ext cx="8087040" cy="5915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476360" y="785880"/>
            <a:ext cx="719928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628640" y="1468440"/>
            <a:ext cx="719928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3276720" y="36036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5"/>
          <a:stretch/>
        </p:blipFill>
        <p:spPr>
          <a:xfrm>
            <a:off x="5796000" y="357336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6"/>
          <a:stretch/>
        </p:blipFill>
        <p:spPr>
          <a:xfrm>
            <a:off x="7164360" y="361476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8"/>
          <a:stretch/>
        </p:blipFill>
        <p:spPr>
          <a:xfrm>
            <a:off x="2195640" y="566100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9"/>
          <a:stretch/>
        </p:blipFill>
        <p:spPr>
          <a:xfrm>
            <a:off x="3924360" y="566100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10"/>
          <a:stretch/>
        </p:blipFill>
        <p:spPr>
          <a:xfrm>
            <a:off x="7020000" y="564048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76280" y="1285920"/>
            <a:ext cx="8191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1258920" y="736560"/>
            <a:ext cx="6818400" cy="60771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6875640" y="4149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5651640" y="481824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5"/>
          <a:stretch/>
        </p:blipFill>
        <p:spPr>
          <a:xfrm>
            <a:off x="6875640" y="481824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6"/>
          <a:stretch/>
        </p:blipFill>
        <p:spPr>
          <a:xfrm>
            <a:off x="5651640" y="55069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7"/>
          <a:stretch/>
        </p:blipFill>
        <p:spPr>
          <a:xfrm>
            <a:off x="6875640" y="55069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8"/>
          <a:stretch/>
        </p:blipFill>
        <p:spPr>
          <a:xfrm>
            <a:off x="5651640" y="616572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9"/>
          <a:stretch/>
        </p:blipFill>
        <p:spPr>
          <a:xfrm>
            <a:off x="6875640" y="6165720"/>
            <a:ext cx="79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